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784-7524-457E-9CBD-76CF442D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A7E-0A1D-4057-B8BF-14E88F31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E84-59BF-4E9B-970F-318F8900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9CE-FB8B-42E2-95A5-4575A7E2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20E4-DE54-446A-9D40-3C20A4B1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9990-4180-49D6-85D1-350CD1F1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63C0-D2F1-4D0B-A95C-E1419FB8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644A-AE1F-4161-968B-5C09297E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2D8D-9F05-44FC-97D5-F6105224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FF3C-7D3D-4F52-8885-D11ABC6C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B406-F05D-4D17-BA7A-D9A1982B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88B-196D-4F81-8DD0-B74E4490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22A9-CFC6-4026-8071-26FE383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5987-6A99-44D6-AB34-BCA64C6A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154C-A20F-4D0F-B7D2-E462F8E0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2DC8-DD9A-4DFD-A168-F7EB2BBC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0D03-C988-4E2B-8637-65B3FEB2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685-3415-459A-927E-FC2F3E60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241-2CE9-4C3B-84FD-88F5A098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F63-6822-4EF4-9875-ED099DD6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749-510C-4A47-A3A4-180CBD3F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99A-2F25-4C19-ABB5-E14F870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873-1905-4090-B859-181D57B7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DBD-01CA-415D-AACF-AB68D63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C3B2-519B-4B26-B7A0-CAFCEE158C4C}" type="slidenum"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F520-4E84-4DC9-9BAF-7FBC8AC55BB2}" type="slidenum">
              <a:rPr b="0" lang="en-GB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@150V" TargetMode="External"/><Relationship Id="rId2" Type="http://schemas.openxmlformats.org/officeDocument/2006/relationships/hyperlink" Target="mailto:I@350V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I@150V" TargetMode="External"/><Relationship Id="rId2" Type="http://schemas.openxmlformats.org/officeDocument/2006/relationships/hyperlink" Target="mailto:I@350V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I@150V" TargetMode="External"/><Relationship Id="rId2" Type="http://schemas.openxmlformats.org/officeDocument/2006/relationships/hyperlink" Target="mailto:I@350V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I@150V" TargetMode="External"/><Relationship Id="rId2" Type="http://schemas.openxmlformats.org/officeDocument/2006/relationships/hyperlink" Target="mailto:I@350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@150V" TargetMode="External"/><Relationship Id="rId2" Type="http://schemas.openxmlformats.org/officeDocument/2006/relationships/hyperlink" Target="mailto:I@350V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imes New Roman"/>
              </a:rPr>
              <a:t>Status of Glasgow module production</a:t>
            </a:r>
            <a:r>
              <a:rPr b="0" lang="en-GB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Richard Ba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he University of Glasgow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K.Smith, R. Bates, A. Cheplakov, V. O’She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W. Bell, J. Melone, F. Doherty, M. Hor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SCT Meeting –22</a:t>
            </a:r>
            <a:r>
              <a:rPr b="0" lang="en-GB" sz="2400" spc="-1" strike="noStrike" baseline="30000">
                <a:solidFill>
                  <a:srgbClr val="8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800000"/>
                </a:solidFill>
                <a:latin typeface="Times New Roman"/>
              </a:rPr>
              <a:t> September 200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shieldcentre" descr=""/>
          <p:cNvPicPr/>
          <p:nvPr/>
        </p:nvPicPr>
        <p:blipFill>
          <a:blip r:embed="rId1"/>
          <a:stretch/>
        </p:blipFill>
        <p:spPr>
          <a:xfrm>
            <a:off x="0" y="0"/>
            <a:ext cx="13939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38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=20</a:t>
            </a:r>
            <a:r>
              <a:rPr b="0" lang="en-GB" sz="32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RH&lt;10%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@1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266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@3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420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38_iv" descr=""/>
          <p:cNvPicPr/>
          <p:nvPr/>
        </p:nvPicPr>
        <p:blipFill>
          <a:blip r:embed="rId3"/>
          <a:stretch/>
        </p:blipFill>
        <p:spPr>
          <a:xfrm>
            <a:off x="2590920" y="1981080"/>
            <a:ext cx="655308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820-D8FF-4F8F-8C4F-188D20AF4E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TW of 20220240100038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W:  link0 = 10.1ns link1 =10.4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38_TWlink0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677000" cy="1871640"/>
          </a:xfrm>
          <a:prstGeom prst="rect">
            <a:avLst/>
          </a:prstGeom>
          <a:ln w="0">
            <a:noFill/>
          </a:ln>
        </p:spPr>
      </p:pic>
      <p:pic>
        <p:nvPicPr>
          <p:cNvPr id="318" name="38_TWlink1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7639200" cy="206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9CD-C73D-47AC-AD46-2918501AAF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4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IV – good – see plo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18 bad channels (started with 12 defects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6 un-bon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=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Gain = 54.7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ise: link0=1478ele, link1=1499e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: module = 1.39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5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0=8.46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6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1=1.12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W:  link0 = 10.4ns, link1 =10.9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852-240B-4C91-9BA6-3ECD430BA7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4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=20</a:t>
            </a:r>
            <a:r>
              <a:rPr b="0" lang="en-GB" sz="32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RH&lt;10%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@1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430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@3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594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41_iv" descr=""/>
          <p:cNvPicPr/>
          <p:nvPr/>
        </p:nvPicPr>
        <p:blipFill>
          <a:blip r:embed="rId3"/>
          <a:stretch/>
        </p:blipFill>
        <p:spPr>
          <a:xfrm>
            <a:off x="2666880" y="2057400"/>
            <a:ext cx="6477120" cy="384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F02-2DE8-4AAA-BD68-875BAE1AD9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NO of 2022024010004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41_NO_links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229600" cy="51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783-8BF6-413A-B592-71138CFE09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TW of 2022024010004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7" name="41_TW0" descr=""/>
          <p:cNvPicPr/>
          <p:nvPr/>
        </p:nvPicPr>
        <p:blipFill>
          <a:blip r:embed="rId1"/>
          <a:stretch/>
        </p:blipFill>
        <p:spPr>
          <a:xfrm>
            <a:off x="728640" y="2590920"/>
            <a:ext cx="7686720" cy="2014560"/>
          </a:xfrm>
          <a:prstGeom prst="rect">
            <a:avLst/>
          </a:prstGeom>
          <a:ln w="0">
            <a:noFill/>
          </a:ln>
        </p:spPr>
      </p:pic>
      <p:pic>
        <p:nvPicPr>
          <p:cNvPr id="328" name="41_TW1" descr=""/>
          <p:cNvPicPr/>
          <p:nvPr/>
        </p:nvPicPr>
        <p:blipFill>
          <a:blip r:embed="rId2"/>
          <a:stretch/>
        </p:blipFill>
        <p:spPr>
          <a:xfrm>
            <a:off x="1447920" y="4648320"/>
            <a:ext cx="7696080" cy="19144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71040" y="2057400"/>
            <a:ext cx="60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W:  link0 = 10.4ns link1 =10.9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498-7875-4532-86B0-CA870248BC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LongTerm test of 2022024010004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41_LTT" descr=""/>
          <p:cNvPicPr/>
          <p:nvPr/>
        </p:nvPicPr>
        <p:blipFill>
          <a:blip r:embed="rId1"/>
          <a:stretch/>
        </p:blipFill>
        <p:spPr>
          <a:xfrm>
            <a:off x="46080" y="1676520"/>
            <a:ext cx="9051840" cy="477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067-A9F4-4BED-B3D8-805D797453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4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IV – good – see plo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25 bad channels (started with 10 defects) 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</a:rPr>
              <a:t>(just in spec!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11 un-bonded, 1 part-bon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=11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Gain = 54.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ise: link0=1503ele, link1=1506e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: module = 2.90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5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0=3.35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5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1=3.13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W:  link0 = 10.8ns, link1 =11.6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5EF-1E0E-41FC-8824-DA790C3853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4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=20</a:t>
            </a:r>
            <a:r>
              <a:rPr b="0" lang="en-GB" sz="32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RH&lt;10%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@1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318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@3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523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43_iv" descr=""/>
          <p:cNvPicPr/>
          <p:nvPr/>
        </p:nvPicPr>
        <p:blipFill>
          <a:blip r:embed="rId3"/>
          <a:stretch/>
        </p:blipFill>
        <p:spPr>
          <a:xfrm>
            <a:off x="2730600" y="2438280"/>
            <a:ext cx="641340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3DD-AA66-4B41-8F98-3D35910F15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TW of 2022024010004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W:  link0 = 10.8ns link1 =11.6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0" name="43_TWlink0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24880" cy="2019240"/>
          </a:xfrm>
          <a:prstGeom prst="rect">
            <a:avLst/>
          </a:prstGeom>
          <a:ln w="0">
            <a:noFill/>
          </a:ln>
        </p:spPr>
      </p:pic>
      <p:pic>
        <p:nvPicPr>
          <p:cNvPr id="341" name="43_TWlink1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792468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C60-4E1F-4C16-A17E-AD76538ABE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Pre-qualific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5 qualification modu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S-cur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Wirebond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Multi-module tes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924-C313-4C56-8038-890AB64092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LongTerm Test of 2022024010004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4" name="LTT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45820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013-620A-43E2-9001-1F22577FAB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4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IV – good – see plo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1 bad channels (started with 1 defect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0 un-bon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=8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Gain = 51.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ise: link0=1640ele, link1=1655e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: module = 7.53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6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0=6.97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6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1=6.81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6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W:  link0 = 10.0ns, link1 =10.3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840-6428-4C51-8137-28730F3E88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4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=20</a:t>
            </a:r>
            <a:r>
              <a:rPr b="0" lang="en-GB" sz="32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RH&lt;10%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@1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215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@3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338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9" name="44_iv" descr=""/>
          <p:cNvPicPr/>
          <p:nvPr/>
        </p:nvPicPr>
        <p:blipFill>
          <a:blip r:embed="rId3"/>
          <a:stretch/>
        </p:blipFill>
        <p:spPr>
          <a:xfrm>
            <a:off x="2819520" y="2286000"/>
            <a:ext cx="632448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784-297A-4DEE-9C63-D9DBBC5DCC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TW of 2022024010004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W:  link0 = 10.0ns link1 =10.3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2" name="44_TWlink0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667640" cy="1852560"/>
          </a:xfrm>
          <a:prstGeom prst="rect">
            <a:avLst/>
          </a:prstGeom>
          <a:ln w="0">
            <a:noFill/>
          </a:ln>
        </p:spPr>
      </p:pic>
      <p:pic>
        <p:nvPicPr>
          <p:cNvPr id="353" name="44_TWlink1" descr=""/>
          <p:cNvPicPr/>
          <p:nvPr/>
        </p:nvPicPr>
        <p:blipFill>
          <a:blip r:embed="rId2"/>
          <a:stretch/>
        </p:blipFill>
        <p:spPr>
          <a:xfrm>
            <a:off x="1514520" y="4572000"/>
            <a:ext cx="762948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FA4-106D-42EA-8E56-625FB01E67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-cur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Measurements mad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In Valencia test bo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Inside metal enclos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ERO r/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hielded twisted pair power cables with KEK style chok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Shielded TP signal cables + ferrite chokes near patch ca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ried many grounding schem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able to remove discontinu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Problem due to degradation of electrical contact between module and cooling block during cooling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o try spring wash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4DF-43C9-4907-96D0-0DD1CC2FD4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Wirebonding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95816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Some lost bonds : average = 4.8 + 1 part-bon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ll chip to fan-in bon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Lost bonds due to ji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Only holds hybrid on edges – slight bou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Improved jig by holding module at mounting po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No support on fan-in as this is of unknown heigh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Used for #4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0 un-bond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8" name="DSCF0009" descr=""/>
          <p:cNvPicPr/>
          <p:nvPr/>
        </p:nvPicPr>
        <p:blipFill>
          <a:blip r:embed="rId1"/>
          <a:srcRect l="0" t="39641" r="0" b="0"/>
          <a:stretch/>
        </p:blipFill>
        <p:spPr>
          <a:xfrm>
            <a:off x="4038480" y="4343400"/>
            <a:ext cx="5105520" cy="23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822-482A-45F1-A80B-8905D1CE5A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Multi-module tes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All measurements to date done in single enclosure with capability for two modu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Second DAQ for multi-module testing pres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All hardware present – waiting for final grounding schem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F38-76F4-43C8-9D78-707F8DA9F9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Not quite there yet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Need to understand s-curve proble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ransfer grounding to multi-module set-u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Hope to make progress during this week on s-cur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4D9-48F9-4C83-9D6A-3B5AB2273B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380880" y="266688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Glasgow pre-qualified start of Ju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2 Modul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-O-040_20220240100028 – 3 un-bonded channe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-O-044_20220240100032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800000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Problems with fan-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800000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Glue on fan-in during construc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800000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Three groups of un-bondable channels ( =&gt; 191 defects!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800000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Remove these =&gt; 19 defects, 5 un-bonded (12 bad to start with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Times New Roman"/>
              </a:rPr>
              <a:t>Pre-qualification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CC7-53D3-46CB-A843-4EF232489A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5 qualification modu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4 Finished all Glasgow steps and in spec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One requires rework of VDC chip wire bo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Output of VDC bond wire touching VDC chi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n final electrical tests to be perform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Glasgow ste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irebond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Thermal cycl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Long term te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Electrical Characteris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E8C-2725-477E-93E2-342BFF5C10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Modu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2022024010003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20220240100038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2022024010004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2022024010004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2022024010004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All in spec bar high noise on #44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100 extra electr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Work in progress on VDC bond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S-curve problems has delayed qualification request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C51-B2F8-4FC3-B0C2-006B85CE3A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3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IV – good – see plo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13 bad channels (started with 10 defects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0 un-bon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=9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Gain = 55.4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ise: link0=1432ele, link1=1428e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: module = 7.53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6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0=6.97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6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1=6.81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6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W:  link0 = 10.3ns, link1 =10.2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932-D512-499F-B6DC-7A4A8B045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3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=20</a:t>
            </a:r>
            <a:r>
              <a:rPr b="0" lang="en-GB" sz="32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RH&lt;10%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@1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502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@350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656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35_iv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647712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E8F-1209-4A29-BC87-EE31CB0D4E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TW of 20220240100035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TW:  link0 = 10.3ns link1 =10.2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35_TWlink0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7715520" cy="1876680"/>
          </a:xfrm>
          <a:prstGeom prst="rect">
            <a:avLst/>
          </a:prstGeom>
          <a:ln w="0">
            <a:noFill/>
          </a:ln>
        </p:spPr>
      </p:pic>
      <p:pic>
        <p:nvPicPr>
          <p:cNvPr id="309" name="35_TWlink1" descr=""/>
          <p:cNvPicPr/>
          <p:nvPr/>
        </p:nvPicPr>
        <p:blipFill>
          <a:blip r:embed="rId2"/>
          <a:stretch/>
        </p:blipFill>
        <p:spPr>
          <a:xfrm>
            <a:off x="1504800" y="4572000"/>
            <a:ext cx="7639200" cy="19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CFB-DB72-4589-89EA-4F59567035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ummary of 20220240100038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IV – good – see plo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8 bad channels (started with 0 defects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7 un-bon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=11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Gain = 56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ise: link0=1408ele, link1=1421e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: module = 5.4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5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0=5.6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5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link1=5.5x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TW:  link0 = 10.1ns, link1 =10.4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chard Bat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280-47E6-4A5B-B4F1-1F4D282243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2nd Sept.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ard bates</cp:lastModifiedBy>
  <dcterms:modified xsi:type="dcterms:W3CDTF">2003-09-22T11:01:28Z</dcterms:modified>
  <cp:revision>44</cp:revision>
  <dc:subject/>
  <dc:title>PowerPoint Presentation</dc:title>
</cp:coreProperties>
</file>