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6.wmf" ContentType="image/x-wmf"/>
  <Override PartName="/ppt/media/image1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9.png" ContentType="image/png"/>
  <Override PartName="/ppt/media/image10.wmf" ContentType="image/x-wmf"/>
  <Override PartName="/ppt/media/image6.wmf" ContentType="image/x-wmf"/>
  <Override PartName="/ppt/media/image11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20488275" cy="29383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866A-251B-4564-90B0-F4616726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D431-BF25-4B15-9B27-919831E3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8800-5550-4BC0-9FE3-1AB5AD0D9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58D8-6DAB-4804-8FBB-375431A76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3D4C-EF9E-4A98-9067-DB4A07A8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C1D7-67B5-4270-8471-F78C1E98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16B9-850E-4589-8068-07F02076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C897-B708-4494-A90C-5FBD9892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6415-C0BB-43D1-A6BF-547B05B2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49AD-5238-4C99-86DE-27AA276A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8852-6881-479D-A2D1-7F8422FE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26EB-AD38-4A68-8922-C93F6996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7CD3-BD6D-4571-83B9-92C4197FC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package" Target="../embeddings/oleObject2.xlsx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ack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80720" y="1142640"/>
            <a:ext cx="67820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cc00"/>
                </a:solidFill>
                <a:latin typeface="Trebuchet MS"/>
              </a:rPr>
              <a:t>Higgs to WW </a:t>
            </a:r>
            <a:br>
              <a:rPr sz="6600"/>
            </a:br>
            <a:r>
              <a:rPr b="0" lang="en-US" sz="6600" spc="-1" strike="noStrike">
                <a:solidFill>
                  <a:srgbClr val="99cc00"/>
                </a:solidFill>
                <a:latin typeface="Trebuchet MS"/>
              </a:rPr>
              <a:t>Updat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4495680"/>
            <a:ext cx="6400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3733920"/>
            <a:ext cx="67816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D Benjamin, P Bussey, M Coca, R StDenis, D Hidas, M Kruse, A Robson, S Thompso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back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Trebuchet MS"/>
              </a:rPr>
              <a:t>Higgs to WW Up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76160" y="1294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rebuchet MS"/>
              </a:rPr>
              <a:t>Z to ee </a:t>
            </a:r>
            <a:r>
              <a:rPr b="0" lang="en-GB" sz="2400" spc="-1" strike="noStrike">
                <a:solidFill>
                  <a:srgbClr val="000099"/>
                </a:solidFill>
                <a:latin typeface="Trebuchet MS"/>
              </a:rPr>
              <a:t>(tight, cent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57400" y="6019920"/>
            <a:ext cx="6172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6600"/>
                </a:solidFill>
                <a:latin typeface="Trebuchet MS"/>
              </a:rPr>
              <a:t>Cuts are the same as in ID efficiency Note 730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666880" y="1828800"/>
          <a:ext cx="4648320" cy="4172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828800"/>
                    <a:ext cx="464832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back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Trebuchet MS"/>
              </a:rPr>
              <a:t>Higgs to WW Up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752480" y="1371600"/>
            <a:ext cx="6324480" cy="4571640"/>
            <a:chOff x="1752480" y="1371600"/>
            <a:chExt cx="6324480" cy="4571640"/>
          </a:xfrm>
        </p:grpSpPr>
        <p:pic>
          <p:nvPicPr>
            <p:cNvPr id="105" name="CEM_CEM" descr=""/>
            <p:cNvPicPr/>
            <p:nvPr/>
          </p:nvPicPr>
          <p:blipFill>
            <a:blip r:embed="rId2"/>
            <a:stretch/>
          </p:blipFill>
          <p:spPr>
            <a:xfrm>
              <a:off x="1752480" y="1533960"/>
              <a:ext cx="6324480" cy="440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01080" y="1371600"/>
              <a:ext cx="403200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76160" y="1294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rebuchet MS"/>
              </a:rPr>
              <a:t>Z to ee </a:t>
            </a:r>
            <a:r>
              <a:rPr b="0" lang="en-GB" sz="2400" spc="-1" strike="noStrike">
                <a:solidFill>
                  <a:srgbClr val="000099"/>
                </a:solidFill>
                <a:latin typeface="Trebuchet MS"/>
              </a:rPr>
              <a:t>(tight, cent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5638680"/>
            <a:ext cx="7467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*BR:  269.06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±3.33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(stat)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±2.11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(sys)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±15.87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(lum)</a:t>
            </a:r>
            <a:r>
              <a:rPr b="0" lang="en-GB" sz="3200" spc="-1" strike="noStrike">
                <a:solidFill>
                  <a:srgbClr val="000099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Note 7708: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*BR: 259.3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±3.3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(stat)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±5.4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(sys)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±15.4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(lum)</a:t>
            </a:r>
            <a:r>
              <a:rPr b="0" lang="en-GB" sz="3200" spc="-1" strike="noStrike">
                <a:solidFill>
                  <a:srgbClr val="000099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back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Trebuchet MS"/>
              </a:rPr>
              <a:t>Higgs to WW Up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676160" y="1294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Z to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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(CMU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6019920"/>
            <a:ext cx="73911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6600"/>
                </a:solidFill>
                <a:latin typeface="Trebuchet MS"/>
              </a:rPr>
              <a:t>Cuts are the same as in ID efficiency Notes 3767 and 7956 (JP) apart from the tight cuts are for 3 stereo hi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819520" y="1828800"/>
          <a:ext cx="3879720" cy="4267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1828800"/>
                    <a:ext cx="38797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back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Trebuchet MS"/>
              </a:rPr>
              <a:t>Higgs to WW Up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5638680" y="6514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rebuchet MS"/>
              </a:rPr>
              <a:t>Combined CMUP-CM(UP/X/P/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5410080"/>
            <a:ext cx="7162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*BR:  284.3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±6.63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(stat)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±9.87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(sys)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±16.8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(lum)</a:t>
            </a:r>
            <a:r>
              <a:rPr b="0" lang="en-GB" sz="3200" spc="-1" strike="noStrike">
                <a:solidFill>
                  <a:srgbClr val="000099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Note 7708: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*BR: 260.9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±3.5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(stat)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±5.8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(sys)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±15.4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(lum)</a:t>
            </a:r>
            <a:r>
              <a:rPr b="0" lang="en-GB" sz="3200" spc="-1" strike="noStrike">
                <a:solidFill>
                  <a:srgbClr val="000099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209680" y="1828800"/>
            <a:ext cx="5334120" cy="35211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095880" y="5257800"/>
            <a:ext cx="2667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Dilepton Invariant 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1447560" y="2514240"/>
            <a:ext cx="1143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#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129528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Z to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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(CMU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back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cc00"/>
                </a:solidFill>
                <a:latin typeface="Trebuchet MS"/>
              </a:rPr>
              <a:t>Higgs to WW Up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129528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rebuchet MS"/>
              </a:rPr>
              <a:t>Crossections for Z &gt; all combin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752480" y="1828800"/>
          <a:ext cx="7010640" cy="3962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828800"/>
                    <a:ext cx="70106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6095880" y="5791320"/>
            <a:ext cx="2667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Dilepton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1257480" y="2552760"/>
            <a:ext cx="76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*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624852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6600"/>
                </a:solidFill>
                <a:latin typeface="Trebuchet MS"/>
              </a:rPr>
              <a:t>Only statistical errors quoted, queries as to the SF corre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back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cc00"/>
                </a:solidFill>
                <a:latin typeface="Trebuchet MS"/>
              </a:rPr>
              <a:t>Higgs to WW Up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129528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rebuchet MS"/>
              </a:rPr>
              <a:t>Z &gt; ee, </a:t>
            </a:r>
            <a:r>
              <a:rPr b="0" lang="en-GB" sz="3200" spc="-1" strike="noStrike">
                <a:solidFill>
                  <a:srgbClr val="000099"/>
                </a:solidFill>
                <a:latin typeface="Symbol"/>
                <a:ea typeface="Symbol"/>
              </a:rPr>
              <a:t></a:t>
            </a:r>
            <a:r>
              <a:rPr b="0" lang="en-GB" sz="3200" spc="-1" strike="noStrike">
                <a:solidFill>
                  <a:srgbClr val="000099"/>
                </a:solidFill>
                <a:latin typeface="Trebuchet MS"/>
              </a:rPr>
              <a:t> calc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209680" y="3276720"/>
            <a:ext cx="4643640" cy="1209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676520" y="2057400"/>
            <a:ext cx="2209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rebuchet MS"/>
              </a:rPr>
              <a:t>Estimated using the number of same sign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1905120"/>
            <a:ext cx="2438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rebuchet MS"/>
              </a:rPr>
              <a:t>Corrects the Z </a:t>
            </a:r>
            <a:r>
              <a:rPr b="0" lang="en-US" sz="2000" spc="-1" strike="noStrike">
                <a:solidFill>
                  <a:srgbClr val="cc66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cc6600"/>
                </a:solidFill>
                <a:latin typeface="Trebuchet MS"/>
              </a:rPr>
              <a:t> for Z outside the mass window 66-166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4800600"/>
            <a:ext cx="4038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rebuchet MS"/>
              </a:rPr>
              <a:t>Corrects the luminosity due to the luminous region being greater than that over which the luminosity measurement is m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4876920"/>
            <a:ext cx="40384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6600"/>
                </a:solidFill>
                <a:latin typeface="Trebuchet MS"/>
              </a:rPr>
              <a:t>Acceptance is the number of MC events in the mass window after selection over the number of HepgZs in the mass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2819520"/>
            <a:ext cx="8384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324120" y="29718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6629400" y="44197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819520" y="434340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back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cc00"/>
                </a:solidFill>
                <a:latin typeface="Trebuchet MS"/>
              </a:rPr>
              <a:t>Higgs to WW Up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129528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rebuchet MS"/>
              </a:rPr>
              <a:t>Z &gt; ee, </a:t>
            </a:r>
            <a:r>
              <a:rPr b="0" lang="en-GB" sz="3200" spc="-1" strike="noStrike">
                <a:solidFill>
                  <a:srgbClr val="000099"/>
                </a:solidFill>
                <a:latin typeface="Symbol"/>
                <a:ea typeface="Symbol"/>
              </a:rPr>
              <a:t></a:t>
            </a:r>
            <a:r>
              <a:rPr b="0" lang="en-GB" sz="3200" spc="-1" strike="noStrike">
                <a:solidFill>
                  <a:srgbClr val="000099"/>
                </a:solidFill>
                <a:latin typeface="Trebuchet MS"/>
              </a:rPr>
              <a:t> we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04920" y="1905120"/>
          <a:ext cx="8534160" cy="720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905120"/>
                    <a:ext cx="85341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8" name="CEM_CEM_Weight" descr=""/>
          <p:cNvPicPr/>
          <p:nvPr/>
        </p:nvPicPr>
        <p:blipFill>
          <a:blip r:embed="rId4"/>
          <a:stretch/>
        </p:blipFill>
        <p:spPr>
          <a:xfrm>
            <a:off x="1752480" y="2743200"/>
            <a:ext cx="6172200" cy="304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" name=""/>
          <p:cNvGraphicFramePr/>
          <p:nvPr/>
        </p:nvGraphicFramePr>
        <p:xfrm>
          <a:off x="533520" y="5867280"/>
          <a:ext cx="8458200" cy="836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5867280"/>
                    <a:ext cx="84582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back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cc00"/>
                </a:solidFill>
                <a:latin typeface="Trebuchet MS"/>
              </a:rPr>
              <a:t>Higgs to WW Up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129528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Z Mass for MC all chann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1181160" y="285768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Z 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905120" y="1676520"/>
          <a:ext cx="6172200" cy="4892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676520"/>
                    <a:ext cx="6172200" cy="48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2514600" y="3352680"/>
            <a:ext cx="5105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86400" y="62485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Dilepton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back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cc00"/>
                </a:solidFill>
                <a:latin typeface="Trebuchet MS"/>
              </a:rPr>
              <a:t>Higgs to WW Up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129528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Z Mass for all Data chann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1181160" y="285768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Z M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905120" y="1752480"/>
          <a:ext cx="6629400" cy="4927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752480"/>
                    <a:ext cx="6629400" cy="49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590920" y="3352680"/>
            <a:ext cx="5715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19920" y="6248520"/>
            <a:ext cx="2666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Dilepton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back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Trebuchet MS"/>
              </a:rPr>
              <a:t>Higgs to WW Up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295280" y="121896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rebuchet MS"/>
              </a:rPr>
              <a:t>Ongoing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The Joint Physics efficiency Classes 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have been integrated into the code 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 readiness for transition to Gen 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6.1.2 data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ngoing investigations into finding 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better discriminating variables for the 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HWW event 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formation of good run lists for 6.1.2 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easurement of WW cros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back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rebuchet MS"/>
              </a:rPr>
              <a:t>Higgs to WW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00200" y="213336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Current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Reproduction of Note 7708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ata Access Reorgan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Z to ll Crossection Measu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ngoing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Immediate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Future P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back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Trebuchet MS"/>
              </a:rPr>
              <a:t>Higgs to WW Up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990360" y="129492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rebuchet MS"/>
              </a:rPr>
              <a:t>Immediate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tNtuple Validation &amp; 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tuple Validation &amp; 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corporation of all exisiting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66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6600"/>
                </a:solidFill>
                <a:latin typeface="Trebuchet MS"/>
                <a:ea typeface="Times New Roman"/>
              </a:rPr>
              <a:t>Z crossection measurement with new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66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6600"/>
                </a:solidFill>
                <a:latin typeface="Trebuchet MS"/>
                <a:ea typeface="Times New Roman"/>
              </a:rPr>
              <a:t>WW crossection measurement with new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66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6600"/>
                </a:solidFill>
                <a:latin typeface="Trebuchet MS"/>
                <a:ea typeface="Times New Roman"/>
              </a:rPr>
              <a:t>Monte Carlo comparison of acceptances for </a:t>
            </a:r>
            <a:r>
              <a:rPr b="0" lang="en-GB" sz="2400" spc="-1" strike="noStrike">
                <a:solidFill>
                  <a:srgbClr val="cc6600"/>
                </a:solidFill>
                <a:latin typeface="Trebuchet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cc6600"/>
                </a:solidFill>
                <a:latin typeface="Trebuchet MS"/>
                <a:ea typeface="Times New Roman"/>
              </a:rPr>
              <a:t>H&gt;WW using the JP we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66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6600"/>
                </a:solidFill>
                <a:latin typeface="Trebuchet MS"/>
                <a:ea typeface="Times New Roman"/>
              </a:rPr>
              <a:t>Fake study for 50 GeV j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tudy the effects of high luminosity on all 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back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Trebuchet MS"/>
              </a:rPr>
              <a:t>Higgs to WW Up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15238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Future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Neural Net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Vector Boson Fusion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back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Trebuchet MS"/>
              </a:rPr>
              <a:t>Higgs to WW Up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93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rebuchet MS"/>
              </a:rPr>
              <a:t>Reproduction of Note 7708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The yields of the previous 360pb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rebuchet MS"/>
                <a:ea typeface="Times New Roman"/>
              </a:rPr>
              <a:t>-1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H-&gt;WW-&gt;l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nalysis have been 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reproduced apart fr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cc66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6600"/>
                </a:solidFill>
                <a:latin typeface="Trebuchet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cc6600"/>
                </a:solidFill>
                <a:latin typeface="Trebuchet MS"/>
                <a:ea typeface="Times New Roman"/>
              </a:rPr>
              <a:t>some unresolved queries on the Phoenix cu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cc66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6600"/>
                </a:solidFill>
                <a:latin typeface="Trebuchet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cc6600"/>
                </a:solidFill>
                <a:latin typeface="Trebuchet MS"/>
                <a:ea typeface="Times New Roman"/>
              </a:rPr>
              <a:t>the fake estimate is taken as a scaling factor </a:t>
            </a:r>
            <a:r>
              <a:rPr b="0" lang="en-GB" sz="2000" spc="-1" strike="noStrike">
                <a:solidFill>
                  <a:srgbClr val="cc6600"/>
                </a:solidFill>
                <a:latin typeface="Trebuchet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cc6600"/>
                </a:solidFill>
                <a:latin typeface="Trebuchet MS"/>
                <a:ea typeface="Times New Roman"/>
              </a:rPr>
              <a:t>from the old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cc66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6600"/>
                </a:solidFill>
                <a:latin typeface="Trebuchet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cc6600"/>
                </a:solidFill>
                <a:latin typeface="Trebuchet MS"/>
                <a:ea typeface="Times New Roman"/>
              </a:rPr>
              <a:t>some unresolved queries on stubless mu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cc66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6600"/>
                </a:solidFill>
                <a:latin typeface="Trebuchet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cc6600"/>
                </a:solidFill>
                <a:latin typeface="Trebuchet MS"/>
                <a:ea typeface="Times New Roman"/>
              </a:rPr>
              <a:t>plug data has not been inclu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ach cut yield has been reproduced 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number by number for a Higgs 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ass=160G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6600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back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Trebuchet MS"/>
              </a:rPr>
              <a:t>Higgs to WW Up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676160" y="1295280"/>
            <a:ext cx="6933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Reproduction of Note 7708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HWW analysis Event Cu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90720" y="2743200"/>
          <a:ext cx="7772400" cy="3151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2743200"/>
                    <a:ext cx="7772400" cy="31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back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Trebuchet MS"/>
              </a:rPr>
              <a:t>Higgs to WW Up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676160" y="1295280"/>
            <a:ext cx="6933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Reproduction of Note 7708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600200" y="1828800"/>
            <a:ext cx="708660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back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Trebuchet MS"/>
              </a:rPr>
              <a:t>Higgs to WW Up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676160" y="1295280"/>
            <a:ext cx="6933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rebuchet MS"/>
              </a:rPr>
              <a:t>Reproduction of Note 7708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4227480" cy="4343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105520" y="6019920"/>
            <a:ext cx="4267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Dilepton azumuthal separation,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</a:t>
            </a:r>
            <a:r>
              <a:rPr b="0" i="1" lang="en-GB" sz="1800" spc="-1" strike="noStrike" baseline="-25000">
                <a:solidFill>
                  <a:srgbClr val="000000"/>
                </a:solidFill>
                <a:latin typeface="Trebuchet MS"/>
              </a:rPr>
              <a:t>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3162240" y="3390480"/>
            <a:ext cx="3962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# events / pb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rebuchet MS"/>
              </a:rPr>
              <a:t>-1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0.4 (22.5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rebuchet MS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334120" y="2133720"/>
            <a:ext cx="3535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back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Trebuchet MS"/>
              </a:rPr>
              <a:t>Higgs to WW Up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676160" y="1295280"/>
            <a:ext cx="69339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rebuchet MS"/>
              </a:rPr>
              <a:t>Data Access Reorgan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tuple, an object based small Ntuple 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has been created for Analysis 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urp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The Hww Selection code has been 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odified to run from both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TopNtuple and StNtu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orrect matching up of StNtuple 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variables to TopNtuple variables to 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be confirmed, along with Valid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back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Trebuchet MS"/>
              </a:rPr>
              <a:t>Higgs to WW Up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219320" y="2971800"/>
            <a:ext cx="2133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rebuchet MS"/>
              </a:rPr>
              <a:t>(To be phased ou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057400" y="2209680"/>
            <a:ext cx="2133720" cy="685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TopNtu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15000" y="2209680"/>
            <a:ext cx="2133720" cy="685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StNtu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3200400"/>
            <a:ext cx="2438280" cy="16765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Hww&gt;l</a:t>
            </a:r>
            <a:r>
              <a:rPr b="0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l</a:t>
            </a:r>
            <a:r>
              <a:rPr b="0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</a:t>
            </a: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Selection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5257800"/>
            <a:ext cx="2133360" cy="685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MTu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5257800"/>
            <a:ext cx="2133360" cy="6858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rebuchet MS"/>
              </a:rPr>
              <a:t>Dtu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28954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791320" y="28954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657600" y="48769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91320" y="48769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5943600"/>
            <a:ext cx="2133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Trebuchet MS"/>
              </a:rPr>
              <a:t>‘</a:t>
            </a:r>
            <a:r>
              <a:rPr b="0" lang="en-GB" sz="1800" spc="-1" strike="noStrike">
                <a:solidFill>
                  <a:srgbClr val="000099"/>
                </a:solidFill>
                <a:latin typeface="Trebuchet MS"/>
              </a:rPr>
              <a:t>MakeClass’ Based (To be phased ou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43600" y="5943600"/>
            <a:ext cx="2438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rebuchet MS"/>
              </a:rPr>
              <a:t>Object 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rebuchet MS"/>
              </a:rPr>
              <a:t>(for future analy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114800" y="2286000"/>
            <a:ext cx="1676520" cy="457200"/>
            <a:chOff x="4114800" y="2286000"/>
            <a:chExt cx="1676520" cy="457200"/>
          </a:xfrm>
        </p:grpSpPr>
        <p:sp>
          <p:nvSpPr>
            <p:cNvPr id="85" name=""/>
            <p:cNvSpPr/>
            <p:nvPr/>
          </p:nvSpPr>
          <p:spPr>
            <a:xfrm>
              <a:off x="4267080" y="228600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rebuchet MS"/>
                </a:rPr>
                <a:t>Validation in Prog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14800" y="236232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rebuchet MS"/>
                </a:rPr>
                <a:t>&l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10080" y="2362320"/>
              <a:ext cx="38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rebuchet MS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4191120" y="5410080"/>
            <a:ext cx="1675800" cy="457200"/>
            <a:chOff x="4191120" y="5410080"/>
            <a:chExt cx="1675800" cy="457200"/>
          </a:xfrm>
        </p:grpSpPr>
        <p:sp>
          <p:nvSpPr>
            <p:cNvPr id="89" name=""/>
            <p:cNvSpPr/>
            <p:nvPr/>
          </p:nvSpPr>
          <p:spPr>
            <a:xfrm>
              <a:off x="4343040" y="5410080"/>
              <a:ext cx="13712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rebuchet MS"/>
                </a:rPr>
                <a:t>Validation in Prog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91120" y="5486400"/>
              <a:ext cx="3805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rebuchet MS"/>
                </a:rPr>
                <a:t>&l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86040" y="5486400"/>
              <a:ext cx="3808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rebuchet MS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676520" y="1295280"/>
            <a:ext cx="693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rebuchet MS"/>
              </a:rPr>
              <a:t>Data Access Reorgan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back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Trebuchet MS"/>
              </a:rPr>
              <a:t>Higgs to WW Up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676520" y="12949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rebuchet MS"/>
              </a:rPr>
              <a:t>Z to ll Crossection*BR measu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 the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Z &gt; two tight central e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Z &gt; two CMUP mu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Both crosschecked using the old 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tuples and new Dtuples created 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from the original TopNtu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Gen 5.3.3 zewk6d and zewk6m MC 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atasets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Good run lists 0031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(378pb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rebuchet MS"/>
                <a:ea typeface="Times New Roman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for muon and 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1001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(374pb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rebuchet MS"/>
                <a:ea typeface="Times New Roman"/>
              </a:rPr>
              <a:t>-1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for electron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09:49:06Z</dcterms:created>
  <dc:creator> toby davies</dc:creator>
  <dc:description/>
  <dc:language>en-US</dc:language>
  <cp:lastModifiedBy> toby davies</cp:lastModifiedBy>
  <dcterms:modified xsi:type="dcterms:W3CDTF">2006-04-21T19:29:00Z</dcterms:modified>
  <cp:revision>39</cp:revision>
  <dc:subject/>
  <dc:title>Hww N-1 Plots</dc:title>
</cp:coreProperties>
</file>